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970-07B2-40F2-9215-B07532D0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D8E-303E-4FF5-9038-CD08F981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3E0AE-012B-4C65-BD46-8B535760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BD277-4339-4F1C-9F2F-9FBFAFD7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C9006-6BE3-458D-A282-2ADB2A27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FE231-18F6-4232-AE5E-F8017D5B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2CAD1-2F15-4F2F-AC7F-C43DBA47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E0125-FBC1-45A7-8C47-B85C8CAE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269AF-9608-443E-92A3-681C9F3A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AC20A-9F75-4236-AB00-8CD3E0C8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F8931-338C-4F11-9F2D-CAA1243A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23434-EA49-4D21-8445-87EFDDB0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5294-983D-434F-9CF7-ADD940D7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B0960-6696-4E9E-BF68-831AB44B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751E9-F981-454A-A088-D3870E75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4358A-B6E1-4C52-B86B-BF01DA26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6BC11-2A07-44C8-96AE-66E57F91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4845F-7438-43B2-BDB8-6959490F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8EBCD-B5FE-49EA-8C35-3A112B40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81386-04C4-4BE4-BFC8-FDA8A4DF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3B91D-A9E1-4FAD-BA75-AE50E63D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E1608-DF2B-43BD-9363-660C2D24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CDA55-03ED-4D18-AC5D-13E71C30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FD6-0637-4F70-BBDA-8A0ABF47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71B8D-E840-482F-A86C-24CBA986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61B1F-DACB-4536-9E89-A60FB753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EC4A3-9F80-4144-8935-92FE2AE3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F4F1B-6A41-46A5-B092-0705CDF4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918B6-BD74-4D1C-9ADE-0453AF02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ABEBD-A58E-41BA-A54A-3167927D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847F9-0900-4FB9-B599-80193C9E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A5B80-E820-470C-95C4-69A18FA0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5FEB0-1AC9-425D-8696-5990A73D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2D588-60B0-4CA3-A8AC-669E966F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67BD-E79E-40B8-B28B-ADB52863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81C86-4131-4626-B42F-6C8991C1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AB347-10A7-4766-9DA8-31D81957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B21D5-35FC-4249-835D-E11B0ABD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50D09-DB84-4BCA-B3ED-7D1F07BE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4E177-D5D7-4115-A152-0C179C91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CBA8E-6B61-463C-9698-EEE9B705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83744-ED82-4971-B78C-D0351C3B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68756-B24F-4F93-879A-AE7D35AA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1EC18-CBC9-4AE8-BB77-004A98DA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0B4EA-A58C-4796-945E-93D867CB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1950-0FE7-43FC-9D6A-9CC00F14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E5B23-7EDB-43C1-B381-3266117C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A7C84-859E-402C-8EF9-AE0C5441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320EA-58FE-4B9C-B2FB-5ACB86CA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8E8D3-354A-403C-9D72-2881977B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9B867-41D9-471C-B81F-4C4FE865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1BEEC-6776-40D0-9392-54C1C350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340D1-5BF2-49F3-8800-4B739145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B1CEC-713D-4C25-A283-729A32B7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61D6C-205E-42ED-8832-62D1A838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DF3A6-E833-4EC0-ABA8-4C92C817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6E7E-E110-4253-9283-1A45C696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7DBF1-8549-4948-9E43-5F55D1C4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54BEF-B8BE-40DD-9400-F91DFD99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BE261-AA12-4A84-A7E1-FBD569C5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71D6F-4424-4C6F-B188-BAD522DD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FAAD6-2FA6-421F-8491-CE724319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8CF47-E133-4DD5-903C-CB493F13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A441B-E39A-4871-AC7D-B1895742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372D39-A55A-40DA-BD2A-9EFADA58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9ABDB-37EF-42A0-8458-0FF41C2F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11ACC-24C1-458C-A178-F5150251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56AF-AE7C-4DDF-AD35-B1FD0277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47F42E-C9ED-4942-B885-68B7A80A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7C0BCB-553B-480A-8EF8-83E22B85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958EF1-054D-4DBA-A867-C5B4646A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CEF43D-C963-4D71-AB8B-FDDECEF4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42E99-0CFB-49D6-BEC2-82EC6012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79FE71-C301-48EC-8A28-471AE6AD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78DC3F-976C-40D6-849E-3A17D017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A09364-3353-493B-ABE0-B42E9908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EB479D-E3B3-445D-9A48-28B5C534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AAE01D-859A-4E49-AD1A-6D3B7024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6E8D-E4FB-4EAB-9BE9-3E693A35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F6AD5-AC59-41D1-A1EB-A533DC77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F16055-81AF-4C4C-95F8-CF13AA96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715FE1-5709-4898-91CB-57FDBA5D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A3758A-AD2D-463E-9662-9B72B48C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EA134D-792E-41A2-84F6-FD754D1B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9C4048-6F9D-4619-9E26-80F9BAA1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3D0EE1-C65B-4C72-A820-50CAD6A6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49155D-B9DE-4EB7-8F89-2C966BBC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1BD88-A369-46CA-9134-315DF020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59F1BB-16C7-4730-BF85-01E25BD0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EB55-0406-4890-9A54-C145A312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BE23AC-096E-4F6A-AEB6-6ABDDDE4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1CE7C4-182D-4EC6-B05A-9B562B45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CB3721-B2EB-426E-946D-F86C6587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0A4CBD-F392-4376-BE2A-F2EC1136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946E6A-E3DD-47FA-AF7D-742002EF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19E9BF-E4C1-43BF-8493-DAB1A412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2358A9-A1C9-4A5F-A40D-1FFFA706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C5BFF-E9A8-41A8-8D81-8DA3A6EB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C9BDB5-341E-4D22-8D09-94F1CE17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D92D3E-5E4F-498B-99C3-D23B618A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5E6D-A88D-4E3C-B2D8-E58B8173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325C27-02B5-4EFC-9308-902301CB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73F585-49C0-494C-83E8-9048445B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935831-A8B9-422F-805D-521E2361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0DAF6-3510-4A49-A4E0-9C2E2FE7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EC5042-5C84-48C8-BB9E-F4A1470A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3B1B58-C1F0-46C5-9A03-68F1847E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6590C6-D25F-4CA3-94FB-E334EF5C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6FD39A-5B98-4D56-8CA9-B4608884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4EE4F2-158C-473E-B17A-617D7C1A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524785-CAFF-48CA-8BCA-D58244FC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A82-F29B-4F66-AEE0-2701EF68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7DD2-62EE-4F6C-9C80-8411BDC6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F728D9-CA56-40EE-A84C-3FC74C73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D955FE-8E9D-4DAC-BA83-E54F6D83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56493B-951C-4EFB-9B14-5B8AA93D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D9D95E-3F86-47EB-B369-EAFB9EC7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10D195-AA85-4243-A597-3BA6B30C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CC43B3-507D-4849-804C-C2AF1E50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C25DAB-F096-4538-9CF4-2683E059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A859BA-A931-41EC-B8B9-1CC7087C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445C85-BE4F-4777-A810-2720A80E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FBC814-4A5C-4E82-8F82-547D9B3E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BDE3-5128-45E8-971D-8B29CBF5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228DAE-5FAF-46A8-B5B0-BF3F20C2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BC8702-6188-4B01-B7AA-2D0CFB7C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17421D-C8E3-4F60-BB40-BF7C23D0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56B553-6C07-4B46-BE71-0B29D020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65F75-DCB1-4CF4-A350-32C97A76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7FE53B-7921-41D8-AAAB-795517C3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63C94B-934D-401D-8654-CDDB89E79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D14E64-0F49-4853-A2E4-847854A3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395E53-2215-465D-9C55-FC0EEA84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2114CC-4D40-4E3E-A317-71FEE820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E8A1-9942-4B17-921B-FC0CB86C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0D85CE-3A69-4C94-8FAA-9625496A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27EEC3-8119-49A3-9FDB-0517F228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408420-C468-4F07-8319-84678F07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0A65FC-798E-4320-8159-083FD888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B42009-D384-45E7-B1E9-99F07F39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C74024-9CC2-422A-9659-313805A4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FB65D7-6E80-4E8B-83E5-428A9F61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8D4C5B-5EA9-4E6F-AB95-C24E13DB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DCE957-C685-4D44-83B0-8EA128EB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373C89-55C1-4E37-BBCD-09313034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09AC-4427-4359-B890-3115A0FF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B06395-AE2C-4B8A-BCF5-DE9E40A0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BBC51F-B842-404E-8863-7FA0B0EF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D68C9D-0A45-4AAF-87ED-E08EAA58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94194F-10FF-4A22-B986-7779D2B3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D355CF-D2B6-4880-B4E1-5C406989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50CBE8-DCBB-464A-9E77-E0D18C54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C5C976-12E3-4C6A-8E24-0C8AD25E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1ADBA2-EEDC-436A-A15B-F7BC2FAA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9C26D3-9BFD-4E13-B907-6BD5E7D8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189CB4-2BCF-43B0-A776-965DA9BA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0C87-F79A-403E-B3C0-91EBB2A9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1C1F9E-9792-4896-8412-759CB114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195A0F-1789-46A4-969C-5453DE94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3C06C4-5AD4-4868-BED4-B03B1B49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12F663-0352-48E3-AB2A-FEF9358A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8CE378-C38E-46B6-83FC-EA3F2332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2585CA-B027-4203-B20E-7A638055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86EDB0-07DD-48D5-8360-E074DC9C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7F4407-B76A-418A-9CA7-5DFD5F3F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66E9E8-9B7B-43BF-A585-9E9E79A3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4D1CEE-49B2-4DBD-B62C-5AD65A68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FF02C-A38D-4CE4-8735-F727D8C7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59FCD3-41BB-4C84-9968-EF514087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E21F2F-B893-47F9-BBCE-F69D32D2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B98076-1725-4023-8BE5-F19E6F0A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F2619-4A07-4BB5-BE5C-48D59538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C6DDC-21DB-4F77-96CA-54041F76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9741E-ADE3-45B0-BDA6-0009A297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AADCF-1495-4C1A-A730-9C8A559F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7FE-ED06-4943-846E-DEED5AB4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E555E-CA4E-4BE9-B4FE-24FE076D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BFB79-44B9-4ECC-826B-D9E2C0AF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1861D-C1F2-47D8-A4D3-DABA788E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FAE68-0EC6-42E8-9C17-753759EB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5F49D-E704-4411-84C9-F4C7FD7A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2851B-D3F4-470B-A4D6-5A3F2480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D3291-38F3-45BD-8DC6-12C4257A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C4392-9467-4AE7-AD24-71537465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E8787-3753-4BCC-9923-A501F712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64B6D-66AA-432B-AC17-10FADEF2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B857-5057-465A-ACB8-20272705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58B1A-D6F3-4F54-A091-CF02EE19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709AE-E2FF-4DD5-AA34-D79424EC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1554A-1601-4AFA-BA5F-FC165B1B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0B2D2-61C2-4097-B018-1C34FDA3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0BB55-F6F0-42EC-A0F6-A828FAAE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9D661-6D5B-4809-B858-3B97020B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3E45E-9A55-42DF-8E65-02F74CF3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F96A3-5812-4BA3-8E24-2F64689A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F12C1-5003-4E67-A7EC-6AE8156D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2CEFE-A7F6-4C04-9F33-2FFA060E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57E-9F10-44C2-AB41-ECB53500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5C065-7322-4CE8-B5AF-0B82A034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DBDC5-920D-4D7D-BDB7-BD5DC339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ECCBD-9DE2-42C9-8B6E-0F9ACD4B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0D719-9764-4D52-A260-C2866296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39AD6-F3E0-4B8E-9538-D42280F1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E83C2-1923-4AFB-9DED-B2B64185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CBBD6-134F-468E-A11E-048A4737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DEDFB-E95E-46BB-B804-7E422623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70ACA-9C54-4399-9ED3-EEFDA118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08DE4-3315-42A3-8BC7-4A64B3D4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D2E-3179-46BF-AA80-3BCC88B2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C1137-3936-4DEE-97E1-8E61FC3C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D3570-710F-4A13-87B4-70794772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8782D-0702-48C4-92A0-819FDF29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D263E-ED5E-4C86-B5D1-3B886BBE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15379-A6C3-47B1-A789-54EF591F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3304B-9F52-48C3-A5F6-1DCCE22F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F55F7-2EB5-4749-9CE1-D3BF0CDA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BE4C0-8738-41B3-9E6F-65BDE831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CC199-747E-4083-9D38-59031958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E55AD-3245-4879-B21C-16BE0E60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5DA-C7BC-448F-8F09-4E35E861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718F3-70E3-400D-A7D7-0526EB9C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D0801-ADF2-4A43-9BA7-7F12B8DC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4B0E9-BE6B-40B8-975A-D0F4942F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E14F4-3BDB-446B-BC78-9B35795F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1931E-0EE3-4EA3-85E9-89C7CAC1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E280B-E8B5-4D47-8C8C-A09A5CF9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995F5-C716-422B-82B6-6685904D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EF62C-82D3-43B4-90C4-7B8AD3B4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DEA09-A542-457F-AAF7-2CF8F3B3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0E09C-B00D-49EB-9EF2-0F19CCAF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D06F-5DD9-442F-8760-09209DF1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9E6A2-DFEE-4B66-BACF-15CC3567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ACAC4-1F5C-4500-A280-CC44515C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56F80-A8DA-4868-BE38-A20A483F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71F73-3EBC-495E-A5B5-9E38E3B0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05678-3241-4CFD-B3D5-24F8863B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6DE88-F4A4-45DD-B3A3-D432323C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1F974-0C93-4712-801F-0607C18E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A8AFB-2FAD-47B1-88F9-C1DDCD12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119A2-75CF-4514-BBCC-FEA57DF2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9B2F2-BC2B-43CC-9BD3-ADEE640A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208-5CF6-4E75-9994-9EE92840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DFD2E-5AF0-4CF4-AA9E-8A9240B9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7556A-470F-4C86-A578-292EA2E2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D97EC-FA80-48D2-99EE-29EDD8D1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22791-C72C-41F5-A046-3A198A7A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4D35D-6605-447D-930D-FEB2FBB2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F81CE-E611-4D3C-8BC6-DE793152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A4954-6BC1-4E9A-834C-CCD20400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5F3CB-F356-49BB-9751-1E8047AA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ADC00-5233-4600-BA2D-A7E07D6B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ED372-0F91-4399-8EDB-E403CE2D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B4A2-F98C-4D38-8F0F-50EE09E7E4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A356-A41D-48A6-A138-DD58FB067E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5E7B-7CB0-49B7-896A-20F4C6537C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2240-EF8B-4DF6-BA1C-637FCC52F9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EB00-38D5-4976-9DC5-FF726F1CAF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D1C9-4640-487B-A853-1FC8764B03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1BA4-8EC0-4958-A37B-A399F61F77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A262-2145-4F09-BC3F-D73186F251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52D8-A2E3-4D1F-9D31-D2041684BD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1D45-8408-439B-A269-E99EC76613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9E91-4E1F-4C16-A5FF-84B54B7327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0B29-3BF5-4487-A0E8-CE8086AC8D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61EE-7463-4657-8BAC-022FFCB31C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2FEF-2E62-435B-8942-A10CF7A224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2AB3-8128-4EBE-A7E9-F0824B215D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07B5-821D-4BF5-89AD-94D30B0A47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8E5E-862C-4962-8B7B-345535FF4A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A73D-C759-44DB-9D66-F187BCD231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5079-859E-4B56-AC89-1D6E665778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78E7-C6ED-416F-BB8A-6EC9A215AD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B3F7-C2FD-46D5-93C4-67DA149AC6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3026-6F8A-4E58-B43F-9E3AE85AE1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F535-A039-4728-AF78-C337C921FD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0168-1A50-4AA1-B73F-DFFB89C0BE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5D55-E016-426B-89AF-7603DFC84A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6809-2637-42E2-9AFC-E7B9F8EBDE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095B-6FBB-4EDA-B3DD-B9C395EDF3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C0EA-AA59-4BCB-A498-8C7DB78CAC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C08A-4B2F-442B-B382-56459C8A0F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33AA-4A2C-48E7-92E2-34DA28DEA3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8423-7430-47C0-BE17-63A55965C7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99BC-49F9-4E70-ABFB-64448081C9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D4F6-4DFC-43D2-AC63-289FBC0855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55C2-0498-4506-8F62-DAE2D9824A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C890-FB07-4BD8-BAD9-DC89173FF9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7DA9-F205-4F06-B837-429BD23283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15E9-5F0A-495A-B171-CFDA83E672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0E52-C779-4FA0-9D26-5B3164F917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0741-A8A1-43D4-AE81-C428253071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C14D-B54C-4258-9485-C12BBC0E95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833400" y="2405160"/>
            <a:ext cx="74772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69633" descr=""/>
          <p:cNvPicPr/>
          <p:nvPr/>
        </p:nvPicPr>
        <p:blipFill>
          <a:blip r:embed="rId1"/>
          <a:stretch/>
        </p:blipFill>
        <p:spPr>
          <a:xfrm>
            <a:off x="252360" y="928800"/>
            <a:ext cx="8639280" cy="55245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755640" y="3156120"/>
            <a:ext cx="6624720" cy="4730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6624720" cy="4730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539640" y="4292640"/>
            <a:ext cx="6624720" cy="9367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5"/>
          <a:stretch/>
        </p:blipFill>
        <p:spPr>
          <a:xfrm>
            <a:off x="468360" y="5359320"/>
            <a:ext cx="6624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166680" y="1762200"/>
            <a:ext cx="8810640" cy="33336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6588000" y="3443400"/>
            <a:ext cx="1101960" cy="4730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8174160" y="3443400"/>
            <a:ext cx="826920" cy="4730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250920" y="3976560"/>
            <a:ext cx="1441440" cy="4730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539640" y="4565520"/>
            <a:ext cx="936720" cy="401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5508720" y="4567320"/>
            <a:ext cx="718920" cy="40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9410" descr=""/>
          <p:cNvPicPr/>
          <p:nvPr/>
        </p:nvPicPr>
        <p:blipFill>
          <a:blip r:embed="rId1"/>
          <a:stretch/>
        </p:blipFill>
        <p:spPr>
          <a:xfrm>
            <a:off x="185760" y="1247760"/>
            <a:ext cx="8772480" cy="4362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7999560" y="3127320"/>
            <a:ext cx="576000" cy="4730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8028000" y="4135320"/>
            <a:ext cx="576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58373" descr=""/>
          <p:cNvPicPr/>
          <p:nvPr/>
        </p:nvPicPr>
        <p:blipFill>
          <a:blip r:embed="rId1"/>
          <a:stretch/>
        </p:blipFill>
        <p:spPr>
          <a:xfrm>
            <a:off x="247680" y="728640"/>
            <a:ext cx="8648640" cy="57247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7956720" y="692280"/>
            <a:ext cx="576000" cy="4730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7956720" y="3803760"/>
            <a:ext cx="576000" cy="4730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1763640" y="5877000"/>
            <a:ext cx="86364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57352" descr=""/>
          <p:cNvPicPr/>
          <p:nvPr/>
        </p:nvPicPr>
        <p:blipFill>
          <a:blip r:embed="rId1"/>
          <a:stretch/>
        </p:blipFill>
        <p:spPr>
          <a:xfrm>
            <a:off x="1333440" y="1066680"/>
            <a:ext cx="6477120" cy="47246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835280" y="2492280"/>
            <a:ext cx="47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619280" y="4913280"/>
            <a:ext cx="475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6324" descr=""/>
          <p:cNvPicPr/>
          <p:nvPr/>
        </p:nvPicPr>
        <p:blipFill>
          <a:blip r:embed="rId1"/>
          <a:stretch/>
        </p:blipFill>
        <p:spPr>
          <a:xfrm>
            <a:off x="233280" y="1380960"/>
            <a:ext cx="8677440" cy="40960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042920" y="1987560"/>
            <a:ext cx="6624720" cy="4730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8101080" y="3730680"/>
            <a:ext cx="576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55300" descr=""/>
          <p:cNvPicPr/>
          <p:nvPr/>
        </p:nvPicPr>
        <p:blipFill>
          <a:blip r:embed="rId1"/>
          <a:stretch/>
        </p:blipFill>
        <p:spPr>
          <a:xfrm>
            <a:off x="1162080" y="1324080"/>
            <a:ext cx="6819840" cy="4209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1692360" y="4091040"/>
            <a:ext cx="7056360" cy="8506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1619280" y="4941720"/>
            <a:ext cx="705636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54276" descr=""/>
          <p:cNvPicPr/>
          <p:nvPr/>
        </p:nvPicPr>
        <p:blipFill>
          <a:blip r:embed="rId1"/>
          <a:stretch/>
        </p:blipFill>
        <p:spPr>
          <a:xfrm>
            <a:off x="466560" y="900000"/>
            <a:ext cx="8210880" cy="50580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900000" y="1398600"/>
            <a:ext cx="7201080" cy="4730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7201080" cy="4730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900000" y="2492280"/>
            <a:ext cx="7201080" cy="4730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684360" y="4508640"/>
            <a:ext cx="8135640" cy="7920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755640" y="5373720"/>
            <a:ext cx="72010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52231" descr=""/>
          <p:cNvPicPr/>
          <p:nvPr/>
        </p:nvPicPr>
        <p:blipFill>
          <a:blip r:embed="rId1"/>
          <a:stretch/>
        </p:blipFill>
        <p:spPr>
          <a:xfrm>
            <a:off x="223920" y="2028960"/>
            <a:ext cx="8696160" cy="28000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539640" y="3170160"/>
            <a:ext cx="7345440" cy="4730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7345440" cy="4730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539640" y="4221000"/>
            <a:ext cx="792000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37:1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